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058-9920-43B6-BC6F-24035E31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678-F925-4A76-A5DF-4E04B81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D6F-37E3-45EB-8F68-8BDD41AE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627-A8D2-418E-83C4-06A7B1AC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03A-9B45-4D64-A369-7D5978C7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43E-89B4-45CE-93EB-50228B9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E4A-6533-4813-B4E7-A567A1E1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BF2-6238-4C32-81B1-465966DE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AD4-5ED3-4429-BAF5-27B6FEEF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1E5-C5C1-4A24-9CB2-240C3D6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607-9B8A-40AA-80A2-D9AE8A1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ED8-25B9-4817-A9D7-1127C38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DB0B-CA14-4EE1-BF39-1CB87B82F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6 Mne nehodné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dal mil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ne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hodnému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án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al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ilos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riechy mi všetky odpustil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aplatil za ne vlastnou krvou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aby som s ním raz večne žil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asnem nad toľkou milosť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iniem sa k 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vďačnosťou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Nič dobré som si nezaslúžil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odplatou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za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hriech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smr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j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vie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kvôli mne zomrel sám Syn Boží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vďačný byť jemu za to chce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 mojom srd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z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án vydobyl mi spasenie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ožou 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a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 nej všetkým rozprá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 tu nad ňu v žití ce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cennejšie nič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ôkol šír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u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ánovi vzd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, česť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7:46:20Z</dcterms:modified>
  <cp:revision>21</cp:revision>
  <dc:subject/>
  <dc:title>Je veľký náš Pán, on slávy je Kráľ Nech do všetkých strán  spev vrúcnych znie chvál.</dc:title>
</cp:coreProperties>
</file>